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media/chimes.wav" ContentType="audio/x-wav"/>
  <Override PartName="/ppt/media/image14.jpeg" ContentType="image/jpeg"/>
  <Override PartName="/ppt/media/click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media/image5.jpeg" ContentType="image/jpeg"/>
  <Override PartName="/ppt/media/image13.jpeg" ContentType="image/jpeg"/>
  <Override PartName="/ppt/media/coin.wav" ContentType="audio/x-wav"/>
  <Override PartName="/ppt/media/arrow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F687-A7F7-4597-9C7C-71A6C594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767C-6EDC-49F2-90B6-32DE38AD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A090-4D25-4CC5-91F2-FE36A352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219B-DE6D-4329-AEAF-EC454A60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C544-8050-424E-89A2-6B83BB60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525E-6621-4030-B4D7-C41D2731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6541-9722-42E7-B605-77987A68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3EAA-86F6-4722-9C1B-7B5778BB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FD7F-6A61-475D-93D2-5581FE1B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39C9-955B-4782-879B-950AB767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EA6A-4278-467D-A2A1-1A5CE5D0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C741-DE0A-46D8-B566-21AC6FBF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20DC-D41E-4BD6-AA0D-C4488016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78FA-C3C4-47C0-B71A-FCF1014D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1A06-3767-4899-89C9-C3E4F632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34BF-5106-411E-AA72-11815918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6251-D057-4AF1-BF15-369AF8A5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2444-9A74-4FFA-9DCE-D649F5DF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F41B-6678-4EB2-9ABB-EEF4150A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2891-B12B-46AC-93A5-7209422A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6FD5-68C7-4F65-BA6D-B353CF14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B27F-1823-4F1F-8749-FED3475A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00FF-3025-4552-A092-555D37D8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2614-3B71-426D-B91B-FE77550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62B0-D334-4EB6-AA95-E154B51B39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D2AF-52B2-488F-A8D4-B24791F5E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835280" y="1989000"/>
            <a:ext cx="619272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sson 4 Numbers 1~5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lus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2867760" y="4437000"/>
            <a:ext cx="310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four boy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7" descr="u=2199601973,3700589127&amp;fm=52&amp;gp=0"/>
          <p:cNvPicPr/>
          <p:nvPr/>
        </p:nvPicPr>
        <p:blipFill>
          <a:blip r:embed="rId1"/>
          <a:stretch/>
        </p:blipFill>
        <p:spPr>
          <a:xfrm>
            <a:off x="3492360" y="1197000"/>
            <a:ext cx="1376640" cy="231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u=2249450396,1658635936&amp;fm=51&amp;gp=0"/>
          <p:cNvPicPr/>
          <p:nvPr/>
        </p:nvPicPr>
        <p:blipFill>
          <a:blip r:embed="rId2"/>
          <a:stretch/>
        </p:blipFill>
        <p:spPr>
          <a:xfrm>
            <a:off x="5076720" y="1268280"/>
            <a:ext cx="1800360" cy="212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imagesCANF90TC"/>
          <p:cNvPicPr/>
          <p:nvPr/>
        </p:nvPicPr>
        <p:blipFill>
          <a:blip r:embed="rId3"/>
          <a:stretch/>
        </p:blipFill>
        <p:spPr>
          <a:xfrm>
            <a:off x="1403280" y="981000"/>
            <a:ext cx="1819440" cy="2505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812320" y="4437000"/>
            <a:ext cx="383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ree book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6" descr="imagesCAQN9LFP"/>
          <p:cNvPicPr/>
          <p:nvPr/>
        </p:nvPicPr>
        <p:blipFill>
          <a:blip r:embed="rId1"/>
          <a:stretch/>
        </p:blipFill>
        <p:spPr>
          <a:xfrm>
            <a:off x="2411280" y="1125360"/>
            <a:ext cx="3651480" cy="3032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arrow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878200" y="4437000"/>
            <a:ext cx="345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one schoo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9" descr="u=1084904660,3711917060&amp;fm=52&amp;gp=0"/>
          <p:cNvPicPr/>
          <p:nvPr/>
        </p:nvPicPr>
        <p:blipFill>
          <a:blip r:embed="rId1"/>
          <a:stretch/>
        </p:blipFill>
        <p:spPr>
          <a:xfrm>
            <a:off x="2050920" y="476280"/>
            <a:ext cx="4392720" cy="36529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oin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imagesCAKFTMF5"/>
          <p:cNvPicPr/>
          <p:nvPr/>
        </p:nvPicPr>
        <p:blipFill>
          <a:blip r:embed="rId1"/>
          <a:stretch/>
        </p:blipFill>
        <p:spPr>
          <a:xfrm>
            <a:off x="2124000" y="1197000"/>
            <a:ext cx="2467080" cy="246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imagesCAKFTMF5"/>
          <p:cNvPicPr/>
          <p:nvPr/>
        </p:nvPicPr>
        <p:blipFill>
          <a:blip r:embed="rId2"/>
          <a:stretch/>
        </p:blipFill>
        <p:spPr>
          <a:xfrm>
            <a:off x="4716360" y="1197000"/>
            <a:ext cx="2467080" cy="2467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2793240" y="4437000"/>
            <a:ext cx="361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four chair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heel/>
    <p:sndAc>
      <p:stSnd>
        <p:snd r:embed="rId3" name="cashreg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2679480" y="4653000"/>
            <a:ext cx="30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wo  girl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9" descr="imagesCAS1AF8E"/>
          <p:cNvPicPr/>
          <p:nvPr/>
        </p:nvPicPr>
        <p:blipFill>
          <a:blip r:embed="rId1"/>
          <a:stretch/>
        </p:blipFill>
        <p:spPr>
          <a:xfrm>
            <a:off x="2987640" y="836640"/>
            <a:ext cx="2629080" cy="3633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u=732889228,2595037604&amp;fm=51&amp;gp=0"/>
          <p:cNvPicPr/>
          <p:nvPr/>
        </p:nvPicPr>
        <p:blipFill>
          <a:blip r:embed="rId1"/>
          <a:stretch/>
        </p:blipFill>
        <p:spPr>
          <a:xfrm>
            <a:off x="1835280" y="112536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u=732889228,2595037604&amp;fm=51&amp;gp=0"/>
          <p:cNvPicPr/>
          <p:nvPr/>
        </p:nvPicPr>
        <p:blipFill>
          <a:blip r:embed="rId2"/>
          <a:stretch/>
        </p:blipFill>
        <p:spPr>
          <a:xfrm>
            <a:off x="3419640" y="1125360"/>
            <a:ext cx="1618920" cy="161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u=732889228,2595037604&amp;fm=51&amp;gp=0"/>
          <p:cNvPicPr/>
          <p:nvPr/>
        </p:nvPicPr>
        <p:blipFill>
          <a:blip r:embed="rId3"/>
          <a:stretch/>
        </p:blipFill>
        <p:spPr>
          <a:xfrm>
            <a:off x="5003640" y="112536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u=732889228,2595037604&amp;fm=51&amp;gp=0"/>
          <p:cNvPicPr/>
          <p:nvPr/>
        </p:nvPicPr>
        <p:blipFill>
          <a:blip r:embed="rId4"/>
          <a:stretch/>
        </p:blipFill>
        <p:spPr>
          <a:xfrm>
            <a:off x="2987640" y="278136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u=732889228,2595037604&amp;fm=51&amp;gp=0"/>
          <p:cNvPicPr/>
          <p:nvPr/>
        </p:nvPicPr>
        <p:blipFill>
          <a:blip r:embed="rId5"/>
          <a:stretch/>
        </p:blipFill>
        <p:spPr>
          <a:xfrm>
            <a:off x="4572000" y="278136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2659320" y="4653000"/>
            <a:ext cx="33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five  desk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u=1189081803,1609194678&amp;fm=0&amp;gp=0"/>
          <p:cNvPicPr/>
          <p:nvPr/>
        </p:nvPicPr>
        <p:blipFill>
          <a:blip r:embed="rId1"/>
          <a:stretch/>
        </p:blipFill>
        <p:spPr>
          <a:xfrm>
            <a:off x="3924360" y="549360"/>
            <a:ext cx="1716120" cy="208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b0fa7503918238d4c7b5e085c0903088105cd4e8"/>
          <p:cNvPicPr/>
          <p:nvPr/>
        </p:nvPicPr>
        <p:blipFill>
          <a:blip r:embed="rId2"/>
          <a:stretch/>
        </p:blipFill>
        <p:spPr>
          <a:xfrm>
            <a:off x="6877080" y="620640"/>
            <a:ext cx="1558800" cy="1798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u=1517172205,1433266928&amp;fm=52&amp;gp=0"/>
          <p:cNvPicPr/>
          <p:nvPr/>
        </p:nvPicPr>
        <p:blipFill>
          <a:blip r:embed="rId3"/>
          <a:stretch/>
        </p:blipFill>
        <p:spPr>
          <a:xfrm>
            <a:off x="1042920" y="62064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u=345904816,3743963104&amp;fm=52&amp;gp=0"/>
          <p:cNvPicPr/>
          <p:nvPr/>
        </p:nvPicPr>
        <p:blipFill>
          <a:blip r:embed="rId4"/>
          <a:stretch/>
        </p:blipFill>
        <p:spPr>
          <a:xfrm>
            <a:off x="755640" y="3645000"/>
            <a:ext cx="2095560" cy="17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u=2972057217,2782024170&amp;fm=51&amp;gp=0"/>
          <p:cNvPicPr/>
          <p:nvPr/>
        </p:nvPicPr>
        <p:blipFill>
          <a:blip r:embed="rId5"/>
          <a:stretch/>
        </p:blipFill>
        <p:spPr>
          <a:xfrm>
            <a:off x="4067280" y="3789360"/>
            <a:ext cx="1523880" cy="161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u=3429569906,4227291758&amp;fm=51&amp;gp=0"/>
          <p:cNvPicPr/>
          <p:nvPr/>
        </p:nvPicPr>
        <p:blipFill>
          <a:blip r:embed="rId6"/>
          <a:stretch/>
        </p:blipFill>
        <p:spPr>
          <a:xfrm>
            <a:off x="7020000" y="3500280"/>
            <a:ext cx="1411200" cy="2016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08:48:30Z</dcterms:created>
  <dc:creator>www.edudown.net</dc:creator>
  <dc:description>www.edudown.net</dc:description>
  <cp:keywords>www.edudown.net</cp:keywords>
  <dc:language>en-US</dc:language>
  <cp:lastModifiedBy/>
  <dcterms:modified xsi:type="dcterms:W3CDTF">2013-10-11T04:57:54Z</dcterms:modified>
  <cp:revision>0</cp:revision>
  <dc:subject>www.edudown.net</dc:subject>
  <dc:title>www.edudown.net</dc:title>
</cp:coreProperties>
</file>